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8533-9B0C-4C8C-833A-E67D84C7A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C7A5-5BF4-43CC-872B-627D116CF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DCFD3-3DA0-48A0-8530-DF947FAB2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276CF-81E6-490D-BBE8-90FB4C9BD7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611D5-48F5-4967-921B-5D7A38C45E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9C25-0286-43B3-81CA-33DFD94B2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2DAAC-C8A8-4912-910D-67EA59D0D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D296-88E0-4171-A5D7-9A807B69F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AB6D-C771-4136-A532-98502693C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FA060-49BD-40F2-891A-ACDA5B956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9381-AA8F-48A3-93AD-11CDC04FB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B3957-BE3A-4559-9688-E37BC0903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8D53-AD71-4450-AAB2-51FD104A5C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 txBox="1"/>
          <p:nvPr/>
        </p:nvSpPr>
        <p:spPr>
          <a:xfrm rot="16162200">
            <a:off x="-2553840" y="2854080"/>
            <a:ext cx="6476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8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ractices &amp; Learn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28800" y="762120"/>
            <a:ext cx="6705720" cy="5741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dca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earning Outcom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Name at least 4 factors that you need to consider when organising a training 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Name and describe the 4 different presentations of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47920" y="91440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en introducing a new skill or sequence of movements, the coach has to decide upon the best option that allows the performer to create a clear mental picture and allows for the development of a sound kinaesthetic aware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3124080"/>
            <a:ext cx="7391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In groups you will be given a teaching / practice method information c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You will need to present the information to the rest of the class and teach them a skill using that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76360" y="304920"/>
            <a:ext cx="728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4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Impact"/>
              </a:rPr>
              <a:t>Types of Practice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371600"/>
            <a:ext cx="74358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fter the learner has attempted the skill after being instructed (presentation of practice) they now need to spend time developing and refining the movement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coach or teacher has to decide the best type of practice to use to ensu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Learning actually occ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Motivation is mainta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atigue does not limit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variable factors are the periods of active work and recovery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763640" y="457200"/>
            <a:ext cx="684684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Massed Pract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1006560" y="1413000"/>
            <a:ext cx="81374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Involves repeated practice of ski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Little or no recovery periods between blocks of tri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2590920"/>
            <a:ext cx="7210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Comic Sans MS"/>
              </a:rPr>
              <a:t>Ideally used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kills are discrete or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former is well motiv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former is experie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former has a high level of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Must be careful to avoid boredom, fatigue and over-trainin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476360" y="380880"/>
            <a:ext cx="713412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Distributed Pract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1371600"/>
            <a:ext cx="7956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volves repeated practice of skills with a recovery period before repetition of skill or development of a new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covery period may involve some form of activity or mental rehearsal, feedback, or simply time to refocus and motivate per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3232080"/>
            <a:ext cx="7583400" cy="36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ff"/>
                </a:solidFill>
                <a:latin typeface="Comic Sans MS"/>
              </a:rPr>
              <a:t>Ideally used wh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kills are new and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petition of gross skills / physically demanding 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w levels of motivation / fit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former has short attention s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covery period is needed for feedback /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Must be careful to avoid de-motivation, loss of concentration, ill-discipline within group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835280" y="692280"/>
            <a:ext cx="66992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Variable Pract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2895480"/>
            <a:ext cx="66135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volves coach using a mixture of both massed and distributed practice within one se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is will help to maintain the interest and motivation  levels of the performer and limits the effects of fat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63640" y="189000"/>
            <a:ext cx="683424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Mental Pract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476360" y="1125360"/>
            <a:ext cx="7362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volves the cognitive rehearsal of a skill without physical mov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Particularly useful as it may be used before, during and after compe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 performer attempts to create a picture in their mind of themselves carrying out the sk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Also referred to as ‘mental rehearsal’ or ‘imagery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wo ways they can do th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4292640"/>
            <a:ext cx="3889440" cy="26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Involves the performer seeing themselves from within completing the action or in the situation and consequently creating a kinaesthetic feel of the actual move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4221000"/>
            <a:ext cx="3627720" cy="271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Involves the performer seeing themselves as if they were a spectator or on film. They actually imagine watching themselves performing the skil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42920" y="189000"/>
            <a:ext cx="20574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Arial Black"/>
              </a:rPr>
              <a:t>?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050920" y="765000"/>
            <a:ext cx="129564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Arial Black"/>
              </a:rPr>
              <a:t>?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43280" y="1341360"/>
            <a:ext cx="9144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Arial Black"/>
              </a:rPr>
              <a:t>?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00720" y="0"/>
            <a:ext cx="44193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Impact"/>
              </a:rPr>
              <a:t>Think of as many </a:t>
            </a:r>
            <a:endParaRPr b="0" lang="en-US" sz="24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Impact"/>
              </a:rPr>
              <a:t>sporting examples </a:t>
            </a:r>
            <a:endParaRPr b="0" lang="en-US" sz="24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Impact"/>
              </a:rPr>
              <a:t>where 'imagery' </a:t>
            </a:r>
            <a:endParaRPr b="0" lang="en-US" sz="24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Impact"/>
              </a:rPr>
              <a:t>is used</a:t>
            </a:r>
            <a:endParaRPr b="0" lang="en-US" sz="24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4005360"/>
            <a:ext cx="2160360" cy="19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gby player about to take a conversion / penalty k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2924280"/>
            <a:ext cx="1854360" cy="19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unning the race 100m – Linford Chris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5157720"/>
            <a:ext cx="25909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rampolinist before their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3809880"/>
            <a:ext cx="25905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gh jumper about to 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04000" y="5229360"/>
            <a:ext cx="20574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ce Dancer before their ic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304920"/>
            <a:ext cx="78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ke a list of when you think it would be ideal to use Mental Practic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1752480"/>
            <a:ext cx="2971800" cy="13136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arning time needs to be reduced (especially for no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1676520"/>
            <a:ext cx="3048120" cy="1618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perienced performers need to prepare for alternative options prior to compe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3645000"/>
            <a:ext cx="2521080" cy="1618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former needs to concentrate on developing specific aspects or the overall sk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3645000"/>
            <a:ext cx="2743200" cy="7038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rousal levels need to be contro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5638680"/>
            <a:ext cx="2819520" cy="7038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fidence needs to be deve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4952880"/>
            <a:ext cx="3200400" cy="13136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former is injured and some form of practice needs to be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286000" y="2133720"/>
            <a:ext cx="4952880" cy="21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Optimising Mental 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Practice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962160" y="1676520"/>
            <a:ext cx="228600" cy="761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8380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ding a quiet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4876920"/>
            <a:ext cx="24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cusing on the task and creating a clear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724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couraging successful outcomes no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357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gular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6858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 during recovery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324480" y="1752120"/>
            <a:ext cx="4572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36000" y="2852640"/>
            <a:ext cx="865080" cy="576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666520" y="4038480"/>
            <a:ext cx="838440" cy="838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657600"/>
            <a:ext cx="685800" cy="838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5120" y="304920"/>
            <a:ext cx="6705360" cy="4692960"/>
          </a:xfrm>
          <a:prstGeom prst="rect">
            <a:avLst/>
          </a:prstGeom>
          <a:gradFill rotWithShape="0">
            <a:gsLst>
              <a:gs pos="0">
                <a:srgbClr val="ec8c00"/>
              </a:gs>
              <a:gs pos="100000">
                <a:srgbClr val="ffdfc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MEWORK TAS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 each of the following skills choose how you would practice and teach each to both a novice and experienced performer. Explain your 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GOLF SWING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GOLF PUTT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GOLF C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55520" y="1700280"/>
            <a:ext cx="2249640" cy="5157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51280" y="456264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804000" y="4579920"/>
            <a:ext cx="2044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990720"/>
            <a:ext cx="7010280" cy="53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numerous ways to teach new skills and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me are more effective than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most appropriate method is used for a particular group / individual the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It will take less time to learn the skill                                       - Motivation will remain high                           - Retain information to allow progress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676520" y="152280"/>
            <a:ext cx="7162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5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Times New Roman"/>
              </a:rPr>
              <a:t>Planning a Training Se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16765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the often limited time during a training session is to be optimised, various factors must be considered. Learning is often limited by lack of thought and pre-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335268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mic Sans MS"/>
              </a:rPr>
              <a:t>What factors do we need to consider under the following headings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434340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cc"/>
                </a:solidFill>
                <a:latin typeface="Comic Sans MS"/>
              </a:rPr>
              <a:t>Nature of the Performer/ Learner/ Particip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495288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cc"/>
                </a:solidFill>
                <a:latin typeface="Comic Sans MS"/>
              </a:rPr>
              <a:t>Nature of Ta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556272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cc"/>
                </a:solidFill>
                <a:latin typeface="Comic Sans MS"/>
              </a:rPr>
              <a:t>Experience of Coach / Teac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617220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cc"/>
                </a:solidFill>
                <a:latin typeface="Comic Sans MS"/>
              </a:rPr>
              <a:t>Environmental Cond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295280" y="152280"/>
          <a:ext cx="7696440" cy="6504120"/>
        </p:xfrm>
        <a:graphic>
          <a:graphicData uri="http://schemas.openxmlformats.org/drawingml/2006/table">
            <a:tbl>
              <a:tblPr/>
              <a:tblGrid>
                <a:gridCol w="1828800"/>
                <a:gridCol w="2057400"/>
                <a:gridCol w="1886040"/>
                <a:gridCol w="1924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performer / learner /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the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xperience of teacher /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nvironmental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vious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g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ical &amp; mental 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ze of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/clos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ss/fine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crete / serial/continuous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f / externally pac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e / comple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 or high organisational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ount of knowledge relating to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tionship with group or lear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ilities and equipment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rpose of the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 avail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371600" y="1371600"/>
            <a:ext cx="167652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371600"/>
            <a:ext cx="190512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371600"/>
            <a:ext cx="1752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1371600"/>
            <a:ext cx="1752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295280" y="152280"/>
          <a:ext cx="7696440" cy="6504120"/>
        </p:xfrm>
        <a:graphic>
          <a:graphicData uri="http://schemas.openxmlformats.org/drawingml/2006/table">
            <a:tbl>
              <a:tblPr/>
              <a:tblGrid>
                <a:gridCol w="1828800"/>
                <a:gridCol w="2057400"/>
                <a:gridCol w="1886040"/>
                <a:gridCol w="1924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performer / learner /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the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xperience of teacher /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nvironmental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vious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g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ical &amp; mental 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ze of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/clos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ss/fine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crete / serial/continuous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f / externally pac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e / comple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 or high organisational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ount of knowledge relating to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tionship with group or lear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ilities and equipment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rpose of the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 avail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200400" y="1371600"/>
            <a:ext cx="190512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1371600"/>
            <a:ext cx="1752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1371600"/>
            <a:ext cx="1752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295280" y="152280"/>
          <a:ext cx="7696440" cy="6504120"/>
        </p:xfrm>
        <a:graphic>
          <a:graphicData uri="http://schemas.openxmlformats.org/drawingml/2006/table">
            <a:tbl>
              <a:tblPr/>
              <a:tblGrid>
                <a:gridCol w="1828800"/>
                <a:gridCol w="2057400"/>
                <a:gridCol w="1886040"/>
                <a:gridCol w="1924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performer / learner /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the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xperience of teacher /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nvironmental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vious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g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ical &amp; mental 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ze of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/clos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ss/fine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crete / serial/continuous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f / externally pac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e / comple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 or high organisational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ount of knowledge relating to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tionship with group or lear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ilities and equipment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rpose of the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 avail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5257800" y="1371600"/>
            <a:ext cx="1752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1371600"/>
            <a:ext cx="1752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95280" y="152280"/>
          <a:ext cx="7696440" cy="6504120"/>
        </p:xfrm>
        <a:graphic>
          <a:graphicData uri="http://schemas.openxmlformats.org/drawingml/2006/table">
            <a:tbl>
              <a:tblPr/>
              <a:tblGrid>
                <a:gridCol w="1828800"/>
                <a:gridCol w="2057400"/>
                <a:gridCol w="1886040"/>
                <a:gridCol w="1924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performer / learner /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the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xperience of teacher /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nvironmental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vious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g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ical &amp; mental 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ze of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/clos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ss/fine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crete / serial/continuous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f / externally pac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e / comple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 or high organisational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ount of knowledge relating to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tionship with group or lear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ilities and equipment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rpose of the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 avail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7162920" y="1371600"/>
            <a:ext cx="1752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295280" y="152280"/>
          <a:ext cx="7696440" cy="6504120"/>
        </p:xfrm>
        <a:graphic>
          <a:graphicData uri="http://schemas.openxmlformats.org/drawingml/2006/table">
            <a:tbl>
              <a:tblPr/>
              <a:tblGrid>
                <a:gridCol w="1828800"/>
                <a:gridCol w="2057400"/>
                <a:gridCol w="1886040"/>
                <a:gridCol w="1924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performer / learner /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ture of the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xperience of teacher /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Environmental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vious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g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ical &amp; mental 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ze of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/clos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ss/fine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crete / serial/continuous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f / externally paced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le / comple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 or high organisational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ount of knowledge relating to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tionship with group or lear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ilities and equipment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rpose of the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 avail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447920" y="1447920"/>
            <a:ext cx="8458200" cy="30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 Black"/>
              </a:rPr>
              <a:t>Presentation of Practi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8:43:53Z</dcterms:created>
  <dc:creator>molly nicholas</dc:creator>
  <dc:description/>
  <dc:language>en-US</dc:language>
  <cp:lastModifiedBy>sullivang</cp:lastModifiedBy>
  <dcterms:modified xsi:type="dcterms:W3CDTF">2011-05-21T23:53:23Z</dcterms:modified>
  <cp:revision>8</cp:revision>
  <dc:subject/>
  <dc:title>PowerPoint Presentation</dc:title>
</cp:coreProperties>
</file>